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A44-2A53-402B-89F9-B080F39D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CB8-64AE-45C5-9279-1753506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00A-AD7F-40B5-ABA3-53D7B0C1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692-FAAB-407F-B212-04B2B8CA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8DA-3254-4162-82C0-2A82824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127-AB2F-4383-8348-F6C8C7E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DC9-8569-4302-97D4-E451688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7D0-74A7-41B9-804E-22A82FB3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E85-31FC-441F-95F0-2E88F2D8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745-879E-4DCD-A6E1-32FADA5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362-0C87-4E67-9E65-39D246B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5A3-DA1D-4DF4-9127-A394B8D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DA5-4A1B-43C5-8962-94C2E9AD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1 de marz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para el examen del próximo vier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8320" y="38242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0880" y="3824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07040" y="382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d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0480" y="496728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ro indicador /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9400" y="60199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134100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.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mpieza el segundo _______, los jugadores de futbol vuelven al ca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3. Si el balon entra en la __________, el jugador mete un gol y marca un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ay once ________ en un equipo de fut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n equipo gana el partido y el otro equipo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6920" y="19810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7760" y="3062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70440" y="35193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85000" y="411480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ug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7360" y="5119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i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. 38, write everything you can about the image in Span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hoj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9257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3:29:36Z</dcterms:created>
  <dc:creator>Helen Zumaeta</dc:creator>
  <dc:description/>
  <dc:language>en-US</dc:language>
  <cp:lastModifiedBy>Helen Zumaeta</cp:lastModifiedBy>
  <dcterms:modified xsi:type="dcterms:W3CDTF">2011-03-11T03:32:08Z</dcterms:modified>
  <cp:revision>3</cp:revision>
  <dc:subject/>
  <dc:title>Me llamo _______  Clase 7 IM La fecha es el 11 de marzo del 2011</dc:title>
</cp:coreProperties>
</file>